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DFF-FDD5-4BFF-A681-3D9432A0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842-2384-4144-9925-96A9C6A4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564-0AC2-425F-A5FB-3B47D95C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FAE-455E-45FA-9D09-E82E18E3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626D-3C0E-403C-9167-81E9BB7F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55D-769F-4C38-A0BE-DFFA4260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565-9FCD-42A1-85FE-CD2687C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E034-08C9-49AB-BF0A-25D0AD5E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615-12A5-43A1-95C9-72E1DCD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63FE-FBC2-44C4-900D-9338C7A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2C42-1A47-4AE0-B1B4-BD6D03B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07C-E0F4-4184-A3A9-DB83441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03E6-E94D-4F35-A7B2-7CEFEBB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F0C-D55A-471E-8454-A0F0807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F33-B181-4C1F-8C24-C06F8EDA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006-BFE0-4F3E-9A2D-FCE63509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736C-C5C7-485E-9F05-CDB2C870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9E5-085C-4FF3-B340-6C1F88FB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7F9-AE01-4EF2-B2F3-72F803A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250-5698-468B-84FB-CC500D4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7EA-B0B5-44A9-8984-7AC3557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F0D-FA79-463C-84B7-0250B84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E6A-34FB-49D0-A1FD-8796AD2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E18-CC8D-47FC-94F4-7B9404E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012-1B33-4A5E-ACF3-5A57D9B17B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417-81B9-45EB-9CFD-2029A365B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undbiteblog.com/wp-content/uploads/2007/08/money-bags.png&amp;imgrefurl=http://duanesm81.wordpress.com/&amp;h=640&amp;w=465&amp;sz=53&amp;hl=en&amp;start=13&amp;tbnid=-RB8nZkxsj2vgM:&amp;tbnh=137&amp;tbnw=100&amp;prev=/images%3Fq%3Dmoney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gnitesocialmedia.com/wp-content/uploads/2008/02/budget.jpg&amp;imgrefurl=http://www.ignitesocialmedia.com/category/news/&amp;h=364&amp;w=366&amp;sz=23&amp;hl=en&amp;start=14&amp;tbnid=8uZfOB88IoqRaM:&amp;tbnh=121&amp;tbnw=122&amp;prev=/images%3Fq%3Dbudge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eativepro.com/files/story_images/042204_fg1.jpg&amp;imgrefurl=http://www.creativepro.com/article/heavy-metal-madness-put-a-happy-face&amp;h=315&amp;w=300&amp;sz=21&amp;hl=en&amp;start=4&amp;tbnid=7Pw6mT5uuZlQkM:&amp;tbnh=117&amp;tbnw=111&amp;prev=/images%3Fq%3Dhappy%2Bfac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mediabistro.com/fishbowlLA/original/taxes.jpg&amp;imgrefurl=http://www.mediabistro.com/fishbowlla/general/april_15th_tax_day_82457.asp&amp;h=396&amp;w=318&amp;sz=46&amp;hl=en&amp;start=1&amp;tbnid=yBD4LQ7v4WXetM:&amp;tbnh=124&amp;tbnw=100&amp;prev=/images%3Fq%3Dtaxes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blehelp.org/images/stacks%2520of%2520money.jpg&amp;imgrefurl=http://www.choiceusa.org/index.php%3Foption%3Dcom_jd-wp%26Itemid%3D80%26m%3D200712&amp;h=309&amp;w=339&amp;sz=15&amp;hl=en&amp;start=3&amp;tbnid=8kRIkifjsVYtYM:&amp;tbnh=108&amp;tbnw=119&amp;prev=/images%3Fq%3Dmoney%2B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oniaandtoby.com/images/equals.gif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iving the 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Your Pay Che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71600" y="1828800"/>
          <a:ext cx="586908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586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s To Kn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ic Exp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5029200"/>
            <a:ext cx="11718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dget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nding plan for managing your money during a given period of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bout depriving yourself of your favorite th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about seeing your options and making smarter choices to get what you really w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666880"/>
            <a:ext cx="25239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om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oney you receive!!! Mainly from your pay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from your paycheck you p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Incom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ncom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5812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581280"/>
            <a:ext cx="899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828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35480" y="3657600"/>
            <a:ext cx="1874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 Incom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9246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deducted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ount of money you take home or depos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starting point for budg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65520"/>
            <a:ext cx="1895760" cy="1721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464832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943600" y="4648320"/>
            <a:ext cx="1708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what you spend money on such as needs and w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hree types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xed 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543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nse that cost the same amount every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Car l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146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riable Exp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uctuate in amount (chang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may not have control over the cost of the exp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Gas/ Groc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iodic Expense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nses you don’t pay for every month, can be either variable or fixed expens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02:33Z</dcterms:created>
  <dc:creator>etracey</dc:creator>
  <dc:description/>
  <dc:language>en-US</dc:language>
  <cp:lastModifiedBy>etracey</cp:lastModifiedBy>
  <dcterms:modified xsi:type="dcterms:W3CDTF">2009-04-29T13:31:14Z</dcterms:modified>
  <cp:revision>11</cp:revision>
  <dc:subject/>
  <dc:title>Living the Life</dc:title>
</cp:coreProperties>
</file>